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png" ContentType="image/png"/>
  <Override PartName="/ppt/media/image6.jpeg" ContentType="image/jpeg"/>
  <Override PartName="/ppt/media/image11.jpeg" ContentType="image/jpeg"/>
  <Override PartName="/ppt/media/image13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24D00-A3AF-4D5D-B740-A1EEDF1739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FB1CB-973F-4F24-9BD0-4A32F8A77101}" type="slidenum">
              <a:rPr b="0" lang="en-US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pidemiology of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S. Pneumonia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mmon in children than in adul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 incidence is highest during the cool month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ost commonly associated with viral respiratory dise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C6E76-24B2-49E1-8958-3FB4145F889D}" type="slidenum">
              <a:rPr b="0" lang="en-US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on on skin and in oropharynx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.aureu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 major pathogen for hu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B41ABB-A07C-431D-BB61-AA1AA2E325B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5EA023-8CD1-4757-94AC-0CEDCD32D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3A3B0E-5D25-409E-B94C-16F0B63C9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0DE003-1340-427B-A10D-8E5497D59DF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F7C76D-66E6-471C-A049-4F6BD9DD2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0276CA-607A-4EB3-9275-D6ABC98E0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EA6DDC-9236-4432-B937-E713A4702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E6129F-8589-43CF-88CA-25A7502B1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2146FB-DE87-4B6A-8CDF-6F5AF96E5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B792A1-FAAB-4F64-B89B-6B353746D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247DA8-A004-4BA0-96B2-26175ED84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0378EA-2E0E-4095-A26D-0374CA6E7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4680" y="950760"/>
            <a:ext cx="915516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6ca6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4D2FE-69F6-4749-888A-5D4F460B93A4}" type="slidenum">
              <a:rPr b="0" lang="en-US" sz="1400" spc="-1" strike="noStrike">
                <a:solidFill>
                  <a:srgbClr val="046ca6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36480" y="1114200"/>
            <a:ext cx="7793280" cy="46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黑体"/>
                <a:ea typeface="黑体"/>
              </a:rPr>
              <a:t>病原性球菌</a:t>
            </a:r>
            <a:br>
              <a:rPr sz="5400"/>
            </a:b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方正舒体"/>
              </a:rPr>
              <a:t>(pathogenic cocc</a:t>
            </a:r>
            <a:r>
              <a:rPr b="1" lang="en-GB" sz="4800" spc="-1" strike="noStrike">
                <a:solidFill>
                  <a:srgbClr val="000000"/>
                </a:solidFill>
                <a:latin typeface="Arial"/>
                <a:ea typeface="方正舒体"/>
              </a:rPr>
              <a:t>us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方正舒体"/>
              </a:rPr>
              <a:t>)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幼圆"/>
              </a:rPr>
              <a:t> </a:t>
            </a:r>
            <a:br>
              <a:rPr sz="4800"/>
            </a:b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化脓性球菌</a:t>
            </a:r>
            <a:br>
              <a:rPr sz="5400"/>
            </a:b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方正舒体"/>
              </a:rPr>
              <a:t>(pyogenic coccus)</a:t>
            </a:r>
            <a:br>
              <a:rPr sz="4800"/>
            </a:b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首都医科大学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郑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42600" y="10713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二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. 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致病性与免疫性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2000160" y="2714760"/>
            <a:ext cx="492912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宋体"/>
                <a:ea typeface="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金黄色葡萄球菌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1640" y="107172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主要致病物质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837720" y="1865160"/>
            <a:ext cx="7448760" cy="420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ts val="3798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侵袭力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 algn="just">
              <a:lnSpc>
                <a:spcPts val="3798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菌体表面结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荚膜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SPA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 algn="just">
              <a:lnSpc>
                <a:spcPts val="3798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侵袭性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-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凝固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抗吞噬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感染局限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just">
              <a:lnSpc>
                <a:spcPts val="3798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毒素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 algn="just">
              <a:lnSpc>
                <a:spcPts val="3798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细胞毒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表皮溶解毒素、溶血素、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 algn="just">
              <a:lnSpc>
                <a:spcPts val="37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杀白细胞素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 algn="just">
              <a:lnSpc>
                <a:spcPts val="3798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肠毒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-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耐热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28800" y="1000080"/>
            <a:ext cx="72388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所致主要疾病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857160" y="1928520"/>
            <a:ext cx="742968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ts val="3699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化脓性感染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35480" indent="-282960">
              <a:lnSpc>
                <a:spcPts val="36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局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皮肤软组织感染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疖、痈、脓疱疮、须疮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35480" indent="-282960">
              <a:lnSpc>
                <a:spcPts val="36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全身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败血症、脓毒血症、内脏器官感染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39480" indent="-339480">
              <a:lnSpc>
                <a:spcPts val="3699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毒素性疾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35480" indent="-282960">
              <a:lnSpc>
                <a:spcPts val="36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食物中毒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35480" indent="-282960">
              <a:lnSpc>
                <a:spcPts val="36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烫伤样皮肤综合征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35480" indent="-282960">
              <a:lnSpc>
                <a:spcPts val="36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毒性休克综合征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35480" indent="-282960">
              <a:lnSpc>
                <a:spcPts val="36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葡萄球菌性肠炎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7" name="Rectangle 3"/>
          <p:cNvSpPr/>
          <p:nvPr/>
        </p:nvSpPr>
        <p:spPr>
          <a:xfrm>
            <a:off x="9833040" y="139716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</p:txBody>
      </p:sp>
    </p:spTree>
  </p:cSld>
  <p:transition>
    <p:zoom dir="in"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86000" y="1143000"/>
            <a:ext cx="6400800" cy="94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第二节 链球菌属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942480" y="2133720"/>
            <a:ext cx="7201080" cy="26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lnSpc>
                <a:spcPct val="18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广泛分布在自然界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动物及人体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zoom dir="in"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链球菌EM图"/>
          <p:cNvPicPr/>
          <p:nvPr/>
        </p:nvPicPr>
        <p:blipFill>
          <a:blip r:embed="rId1"/>
          <a:stretch/>
        </p:blipFill>
        <p:spPr>
          <a:xfrm>
            <a:off x="4140360" y="2421000"/>
            <a:ext cx="4518000" cy="3429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3" descr="链球菌G"/>
          <p:cNvPicPr/>
          <p:nvPr/>
        </p:nvPicPr>
        <p:blipFill>
          <a:blip r:embed="rId2"/>
          <a:stretch/>
        </p:blipFill>
        <p:spPr>
          <a:xfrm>
            <a:off x="468360" y="1197000"/>
            <a:ext cx="4114800" cy="32958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60000" y="4509720"/>
            <a:ext cx="1838520" cy="14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链球菌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zoom dir="in"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71320" y="1989000"/>
            <a:ext cx="8001000" cy="43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-812880">
              <a:lnSpc>
                <a:spcPts val="34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一）生物学性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812880" indent="-812880">
              <a:lnSpc>
                <a:spcPts val="34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形态染色结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--G+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卵圆形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蛋白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荚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812880" indent="-812880">
              <a:lnSpc>
                <a:spcPts val="34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培养特点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-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血平板上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β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溶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812880" indent="-812880">
              <a:lnSpc>
                <a:spcPts val="34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抗原构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812880" indent="-812880">
              <a:lnSpc>
                <a:spcPts val="34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多糖抗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C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抗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—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族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群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812880" indent="-812880">
              <a:lnSpc>
                <a:spcPts val="34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蛋白质抗原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表面抗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---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R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812880" indent="-812880">
              <a:lnSpc>
                <a:spcPts val="34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核蛋白抗原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P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抗原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812880" indent="-812880">
              <a:lnSpc>
                <a:spcPts val="34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抵抗力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弱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对青霉素敏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Text Box 10"/>
          <p:cNvSpPr/>
          <p:nvPr/>
        </p:nvSpPr>
        <p:spPr>
          <a:xfrm>
            <a:off x="2031840" y="1023840"/>
            <a:ext cx="511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一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链球菌</a:t>
            </a:r>
            <a:endParaRPr b="0" lang="en-US" sz="4400" spc="-1" strike="noStrike">
              <a:solidFill>
                <a:srgbClr val="046ca6"/>
              </a:solidFill>
              <a:latin typeface="Tahoma"/>
            </a:endParaRPr>
          </a:p>
        </p:txBody>
      </p:sp>
    </p:spTree>
  </p:cSld>
  <p:transition>
    <p:zoom dir="in"/>
  </p:transition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66560" y="857160"/>
            <a:ext cx="4724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链球菌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928800" y="1642680"/>
            <a:ext cx="7248240" cy="46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ts val="3498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溶血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27920" indent="-280080">
              <a:lnSpc>
                <a:spcPts val="34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甲型溶血性链球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--α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溶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条件致病菌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27920" indent="-280080">
              <a:lnSpc>
                <a:spcPts val="34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乙型溶血性链球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--β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溶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致病菌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27920" indent="-280080">
              <a:lnSpc>
                <a:spcPts val="34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丙型链球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--γ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链球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不溶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一般不致病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35880" indent="-335880">
              <a:lnSpc>
                <a:spcPts val="3498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多糖抗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 A-H,K-V2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27920" indent="-280080">
              <a:lnSpc>
                <a:spcPts val="34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族链球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乙型溶血性链球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化脓性链球菌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35880" indent="-335880">
              <a:lnSpc>
                <a:spcPts val="3498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氧需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27920" indent="-280080">
              <a:lnSpc>
                <a:spcPts val="34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需氧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兼性厌氧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乙型溶血性链球菌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27920" indent="-280080">
              <a:lnSpc>
                <a:spcPts val="34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厌氧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正常菌群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变异链球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消化链球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45840" y="1050480"/>
            <a:ext cx="59770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二）致病性与免疫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857160" y="1785600"/>
            <a:ext cx="742968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ts val="37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致病物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ts val="37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侵袭力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-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感染易扩散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 algn="just">
              <a:lnSpc>
                <a:spcPts val="37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菌体表面构造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LTA --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菌毛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黏附 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 algn="just">
              <a:lnSpc>
                <a:spcPts val="3798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蛋白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-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抗吞噬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超敏反应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 algn="just">
              <a:lnSpc>
                <a:spcPts val="37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侵袭性酶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透明质酸酶、链激酶、链道酶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DNA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酶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just">
              <a:lnSpc>
                <a:spcPts val="37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毒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 algn="just">
              <a:lnSpc>
                <a:spcPts val="37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致热外毒素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 algn="just">
              <a:lnSpc>
                <a:spcPts val="37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溶血素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(streptolysin)---SLO, SLS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65120" y="1050840"/>
            <a:ext cx="3987720" cy="67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所致疾病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1042920" y="1844280"/>
            <a:ext cx="583416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局部或全身化脓性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扁桃体炎</a:t>
            </a:r>
            <a:r>
              <a:rPr b="1" lang="en-US" sz="2000" spc="-1" strike="noStrike">
                <a:solidFill>
                  <a:srgbClr val="000000"/>
                </a:solidFill>
                <a:latin typeface="幼圆"/>
                <a:ea typeface="幼圆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咽峡炎</a:t>
            </a:r>
            <a:r>
              <a:rPr b="1" lang="en-US" sz="2000" spc="-1" strike="noStrike">
                <a:solidFill>
                  <a:srgbClr val="000000"/>
                </a:solidFill>
                <a:latin typeface="幼圆"/>
                <a:ea typeface="幼圆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鼻窦炎</a:t>
            </a:r>
            <a:r>
              <a:rPr b="1" lang="en-US" sz="2000" spc="-1" strike="noStrike">
                <a:solidFill>
                  <a:srgbClr val="000000"/>
                </a:solidFill>
                <a:latin typeface="幼圆"/>
                <a:ea typeface="幼圆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中耳炎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丹毒</a:t>
            </a:r>
            <a:r>
              <a:rPr b="1" lang="en-US" sz="2000" spc="-1" strike="noStrike">
                <a:solidFill>
                  <a:srgbClr val="000000"/>
                </a:solidFill>
                <a:latin typeface="幼圆"/>
                <a:ea typeface="幼圆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淋巴管炎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痈</a:t>
            </a:r>
            <a:r>
              <a:rPr b="1" lang="en-US" sz="2000" spc="-1" strike="noStrike">
                <a:solidFill>
                  <a:srgbClr val="000000"/>
                </a:solidFill>
                <a:latin typeface="幼圆"/>
                <a:ea typeface="幼圆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坏疽</a:t>
            </a:r>
            <a:r>
              <a:rPr b="1" lang="en-US" sz="2000" spc="-1" strike="noStrike">
                <a:solidFill>
                  <a:srgbClr val="000000"/>
                </a:solidFill>
                <a:latin typeface="幼圆"/>
                <a:ea typeface="幼圆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蜂窝组织炎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产褥热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败血症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毒素性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猩红热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幼圆"/>
              </a:rPr>
              <a:t>—</a:t>
            </a: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致热外毒素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链球菌毒性休克综合征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超敏反应性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急性肾小球肾炎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风湿热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幼圆"/>
              </a:rPr>
              <a:t>—</a:t>
            </a: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发热</a:t>
            </a:r>
            <a:r>
              <a:rPr b="1" lang="en-US" sz="2000" spc="-1" strike="noStrike">
                <a:solidFill>
                  <a:srgbClr val="000000"/>
                </a:solidFill>
                <a:latin typeface="幼圆"/>
                <a:ea typeface="幼圆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非化脓性全心炎及关节炎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976040" y="857160"/>
            <a:ext cx="5040360" cy="8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二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.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肺炎链球菌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571320" y="1785960"/>
            <a:ext cx="800100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3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一）生物学性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ts val="43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形态染色结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-G+,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矛头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成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荚膜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43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培养特点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--α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溶血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脐状菌落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43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与甲型链球菌区别要点：发酵菊糖试验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43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胆汁溶菌试验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43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抗原构造：荚膜多糖抗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-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型特异性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 84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0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1090080" y="1371240"/>
            <a:ext cx="7053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9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葡萄球菌属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Staphylococci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ts val="29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9297b"/>
                </a:solidFill>
                <a:latin typeface="黑体"/>
                <a:ea typeface="黑体"/>
              </a:rPr>
              <a:t>金黄色葡萄球菌</a:t>
            </a:r>
            <a:r>
              <a:rPr b="0" lang="en-US" sz="2400" spc="-1" strike="noStrike">
                <a:solidFill>
                  <a:srgbClr val="29297b"/>
                </a:solidFill>
                <a:latin typeface="黑体"/>
                <a:ea typeface="黑体"/>
              </a:rPr>
              <a:t>(</a:t>
            </a:r>
            <a:r>
              <a:rPr b="0" i="1" lang="en-US" sz="2400" spc="-1" strike="noStrike">
                <a:solidFill>
                  <a:srgbClr val="29297b"/>
                </a:solidFill>
                <a:latin typeface="Arial"/>
                <a:ea typeface="黑体"/>
              </a:rPr>
              <a:t>S.aureus</a:t>
            </a:r>
            <a:r>
              <a:rPr b="0" lang="en-US" sz="2400" spc="-1" strike="noStrike">
                <a:solidFill>
                  <a:srgbClr val="29297b"/>
                </a:solidFill>
                <a:latin typeface="黑体"/>
                <a:ea typeface="黑体"/>
              </a:rPr>
              <a:t>) 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29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9297b"/>
                </a:solidFill>
                <a:latin typeface="黑体"/>
                <a:ea typeface="黑体"/>
              </a:rPr>
              <a:t>凝固酶阴性葡萄球菌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29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链球菌属</a:t>
            </a:r>
            <a:r>
              <a:rPr b="1" i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Streptococci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ts val="29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7b"/>
                </a:solidFill>
                <a:latin typeface="黑体"/>
                <a:ea typeface="黑体"/>
              </a:rPr>
              <a:t>A</a:t>
            </a:r>
            <a:r>
              <a:rPr b="0" lang="zh-CN" sz="2400" spc="-1" strike="noStrike">
                <a:solidFill>
                  <a:srgbClr val="29297b"/>
                </a:solidFill>
                <a:latin typeface="黑体"/>
                <a:ea typeface="黑体"/>
              </a:rPr>
              <a:t>族链球菌</a:t>
            </a:r>
            <a:r>
              <a:rPr b="0" lang="en-US" sz="2400" spc="-1" strike="noStrike">
                <a:solidFill>
                  <a:srgbClr val="29297b"/>
                </a:solidFill>
                <a:latin typeface="黑体"/>
                <a:ea typeface="黑体"/>
              </a:rPr>
              <a:t>(</a:t>
            </a:r>
            <a:r>
              <a:rPr b="0" i="1" lang="en-US" sz="2400" spc="-1" strike="noStrike">
                <a:solidFill>
                  <a:srgbClr val="29297b"/>
                </a:solidFill>
                <a:latin typeface="Arial"/>
                <a:ea typeface="黑体"/>
              </a:rPr>
              <a:t>β-hemolytic S</a:t>
            </a:r>
            <a:r>
              <a:rPr b="0" i="1" lang="en-GB" sz="2400" spc="-1" strike="noStrike">
                <a:solidFill>
                  <a:srgbClr val="29297b"/>
                </a:solidFill>
                <a:latin typeface="Arial"/>
                <a:ea typeface="黑体"/>
              </a:rPr>
              <a:t>treptococcus</a:t>
            </a:r>
            <a:r>
              <a:rPr b="0" lang="en-US" sz="2400" spc="-1" strike="noStrike">
                <a:solidFill>
                  <a:srgbClr val="29297b"/>
                </a:solidFill>
                <a:latin typeface="黑体"/>
                <a:ea typeface="黑体"/>
              </a:rPr>
              <a:t>)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29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9297b"/>
                </a:solidFill>
                <a:latin typeface="黑体"/>
                <a:ea typeface="黑体"/>
              </a:rPr>
              <a:t>肺炎链球菌</a:t>
            </a:r>
            <a:r>
              <a:rPr b="0" lang="en-US" sz="2400" spc="-1" strike="noStrike">
                <a:solidFill>
                  <a:srgbClr val="29297b"/>
                </a:solidFill>
                <a:latin typeface="黑体"/>
                <a:ea typeface="黑体"/>
              </a:rPr>
              <a:t>(</a:t>
            </a:r>
            <a:r>
              <a:rPr b="0" i="1" lang="en-US" sz="2400" spc="-1" strike="noStrike">
                <a:solidFill>
                  <a:srgbClr val="29297b"/>
                </a:solidFill>
                <a:latin typeface="Arial"/>
                <a:ea typeface="黑体"/>
              </a:rPr>
              <a:t>Strept.pneumoniae</a:t>
            </a:r>
            <a:r>
              <a:rPr b="0" i="1" lang="en-US" sz="2400" spc="-1" strike="noStrike">
                <a:solidFill>
                  <a:srgbClr val="29297b"/>
                </a:solidFill>
                <a:latin typeface="黑体"/>
                <a:ea typeface="黑体"/>
              </a:rPr>
              <a:t>)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29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9297b"/>
                </a:solidFill>
                <a:latin typeface="黑体"/>
                <a:ea typeface="黑体"/>
              </a:rPr>
              <a:t>其他链球菌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29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奈瑟菌属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Neisseria</a:t>
            </a:r>
            <a:r>
              <a:rPr b="1" i="1" lang="en-GB" sz="2800" spc="-1" strike="noStrike">
                <a:solidFill>
                  <a:srgbClr val="000000"/>
                </a:solidFill>
                <a:latin typeface="Arial"/>
                <a:ea typeface="黑体"/>
              </a:rPr>
              <a:t>e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ts val="29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9297b"/>
                </a:solidFill>
                <a:latin typeface="黑体"/>
                <a:ea typeface="黑体"/>
              </a:rPr>
              <a:t>淋病奈瑟菌</a:t>
            </a:r>
            <a:r>
              <a:rPr b="0" lang="en-US" sz="2400" spc="-1" strike="noStrike">
                <a:solidFill>
                  <a:srgbClr val="29297b"/>
                </a:solidFill>
                <a:latin typeface="黑体"/>
                <a:ea typeface="黑体"/>
              </a:rPr>
              <a:t>(</a:t>
            </a:r>
            <a:r>
              <a:rPr b="0" i="1" lang="en-US" sz="2400" spc="-1" strike="noStrike">
                <a:solidFill>
                  <a:srgbClr val="29297b"/>
                </a:solidFill>
                <a:latin typeface="Arial"/>
                <a:ea typeface="黑体"/>
              </a:rPr>
              <a:t>Neisseria gonorrhoeae</a:t>
            </a:r>
            <a:r>
              <a:rPr b="0" lang="en-US" sz="2400" spc="-1" strike="noStrike">
                <a:solidFill>
                  <a:srgbClr val="29297b"/>
                </a:solidFill>
                <a:latin typeface="黑体"/>
                <a:ea typeface="黑体"/>
              </a:rPr>
              <a:t>)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29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9297b"/>
                </a:solidFill>
                <a:latin typeface="黑体"/>
                <a:ea typeface="黑体"/>
              </a:rPr>
              <a:t>脑膜炎奈瑟菌</a:t>
            </a:r>
            <a:r>
              <a:rPr b="0" lang="en-US" sz="2400" spc="-1" strike="noStrike">
                <a:solidFill>
                  <a:srgbClr val="29297b"/>
                </a:solidFill>
                <a:latin typeface="黑体"/>
                <a:ea typeface="黑体"/>
              </a:rPr>
              <a:t>(</a:t>
            </a:r>
            <a:r>
              <a:rPr b="0" i="1" lang="en-US" sz="2400" spc="-1" strike="noStrike">
                <a:solidFill>
                  <a:srgbClr val="29297b"/>
                </a:solidFill>
                <a:latin typeface="Arial"/>
                <a:ea typeface="黑体"/>
              </a:rPr>
              <a:t>Neisseria meningitidis</a:t>
            </a:r>
            <a:r>
              <a:rPr b="0" i="1" lang="en-US" sz="2400" spc="-1" strike="noStrike">
                <a:solidFill>
                  <a:srgbClr val="29297b"/>
                </a:solidFill>
                <a:latin typeface="黑体"/>
                <a:ea typeface="黑体"/>
              </a:rPr>
              <a:t>)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6" descr="P75图6-18"/>
          <p:cNvPicPr/>
          <p:nvPr/>
        </p:nvPicPr>
        <p:blipFill>
          <a:blip r:embed="rId1">
            <a:lum bright="36000"/>
          </a:blip>
          <a:srcRect l="0" t="23966" r="0" b="14875"/>
          <a:stretch/>
        </p:blipFill>
        <p:spPr>
          <a:xfrm>
            <a:off x="3348000" y="1123920"/>
            <a:ext cx="5791320" cy="324792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2"/>
          <p:cNvSpPr/>
          <p:nvPr/>
        </p:nvSpPr>
        <p:spPr>
          <a:xfrm>
            <a:off x="108000" y="1341360"/>
            <a:ext cx="3384360" cy="14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ts val="40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脐状菌落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和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α-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溶血</a:t>
            </a:r>
            <a:endParaRPr b="0" lang="en-US" sz="3200" spc="-1" strike="noStrike">
              <a:solidFill>
                <a:srgbClr val="046ca6"/>
              </a:solidFill>
              <a:latin typeface="Tahoma"/>
            </a:endParaRPr>
          </a:p>
        </p:txBody>
      </p:sp>
      <p:pic>
        <p:nvPicPr>
          <p:cNvPr id="95" name="Picture 7" descr="P75图6-19"/>
          <p:cNvPicPr/>
          <p:nvPr/>
        </p:nvPicPr>
        <p:blipFill>
          <a:blip r:embed="rId2">
            <a:lum bright="18000"/>
          </a:blip>
          <a:srcRect l="12733" t="0" r="7271" b="0"/>
          <a:stretch/>
        </p:blipFill>
        <p:spPr>
          <a:xfrm>
            <a:off x="5681520" y="3789360"/>
            <a:ext cx="3462480" cy="30686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4" descr="脐状菌落"/>
          <p:cNvPicPr/>
          <p:nvPr/>
        </p:nvPicPr>
        <p:blipFill>
          <a:blip r:embed="rId3">
            <a:lum bright="24000"/>
          </a:blip>
          <a:stretch/>
        </p:blipFill>
        <p:spPr>
          <a:xfrm>
            <a:off x="36360" y="2852640"/>
            <a:ext cx="5715000" cy="398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81120" y="907920"/>
            <a:ext cx="6013440" cy="8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二）致病性与免疫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857240" y="1785960"/>
            <a:ext cx="542952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致病物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ts val="36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荚膜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36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肺炎链球菌溶素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36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致病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ts val="36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鼻咽部局部或全身抵抗力下降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36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所致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ts val="36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大叶性肺炎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典型性肺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36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脑膜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支气管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中耳炎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28360" y="979200"/>
            <a:ext cx="7380360" cy="77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第三节 奈瑟菌属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Rectangle 1026"/>
          <p:cNvSpPr/>
          <p:nvPr/>
        </p:nvSpPr>
        <p:spPr>
          <a:xfrm>
            <a:off x="396720" y="1773360"/>
            <a:ext cx="4213440" cy="8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一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淋病奈瑟菌</a:t>
            </a:r>
            <a:endParaRPr b="0" lang="en-US" sz="32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01" name="Rectangle 1027"/>
          <p:cNvSpPr/>
          <p:nvPr/>
        </p:nvSpPr>
        <p:spPr>
          <a:xfrm>
            <a:off x="857160" y="2500200"/>
            <a:ext cx="7429680" cy="38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ts val="34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一）主要生物学性状</a:t>
            </a:r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  <a:p>
            <a:pPr marL="343080" indent="-343080">
              <a:lnSpc>
                <a:spcPts val="34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形态染色结构</a:t>
            </a:r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  <a:p>
            <a:pPr lvl="1" marL="743040" indent="-285840">
              <a:lnSpc>
                <a:spcPts val="34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G-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肾形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成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位于中性粒细胞内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菌毛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荚膜</a:t>
            </a:r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  <a:p>
            <a:pPr marL="343080" indent="-343080">
              <a:lnSpc>
                <a:spcPts val="34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培养特点</a:t>
            </a:r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  <a:p>
            <a:pPr lvl="1" marL="743040" indent="-285840">
              <a:lnSpc>
                <a:spcPts val="34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加热血平板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巧克力色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),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需氧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 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2</a:t>
            </a:r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  <a:p>
            <a:pPr lvl="1" marL="743040" indent="-285840">
              <a:lnSpc>
                <a:spcPts val="34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菌落露滴状或半透明</a:t>
            </a:r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  <a:p>
            <a:pPr marL="343080" indent="-343080">
              <a:lnSpc>
                <a:spcPts val="34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抵抗力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极弱</a:t>
            </a:r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</p:txBody>
      </p:sp>
    </p:spTree>
  </p:cSld>
  <p:transition>
    <p:zoom dir="in"/>
  </p:transition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403280" y="1082520"/>
            <a:ext cx="6337440" cy="63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二）致病性与免疫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950400" y="1928880"/>
            <a:ext cx="7193160" cy="44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3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抗原构造与致病物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ts val="43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菌毛抗原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-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黏附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43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脂多糖抗原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-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内毒素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43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外膜蛋白抗原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-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损伤中性粒细胞膜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黏附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ts val="43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PI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蛋白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-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主要外膜蛋白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分型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ts val="43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PII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蛋白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43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IgA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蛋白酶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黏附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63320" y="979560"/>
            <a:ext cx="4627800" cy="76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所致疾病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403280" y="1917720"/>
            <a:ext cx="6337440" cy="45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0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人是唯一宿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0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成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—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STD-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淋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ts val="40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淋球菌性尿道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淋病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)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副睾炎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40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子宫内膜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阴道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输卵管炎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40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播散性化脓性感染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败血症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40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新生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ts val="40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淋球菌性结膜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脓漏眼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576" dur="indefinite" restart="never" nodeType="tmRoot">
          <p:childTnLst>
            <p:seq>
              <p:cTn id="577" dur="indefinite" nodeType="mainSeq">
                <p:childTnLst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013120" y="833040"/>
            <a:ext cx="507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二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脑膜炎奈瑟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835280" y="1928520"/>
            <a:ext cx="5400720" cy="44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抗原及致病物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荚膜多糖抗原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抗吞噬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菌毛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黏附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脂多糖抗原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内毒素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所致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流行性脑脊髓膜炎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612" dur="indefinite" restart="never" nodeType="tmRoot">
          <p:childTnLst>
            <p:seq>
              <p:cTn id="613" dur="indefinite" nodeType="mainSeq">
                <p:childTnLst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61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90756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化脓性感染的微生物学诊断原则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071360" y="1999800"/>
            <a:ext cx="6986520" cy="428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3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直接涂片染色镜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3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离培养鉴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3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毒性鉴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凝固酶试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肠毒素检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3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抗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抗体检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荚膜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ASO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3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脑膜炎快速诊断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SP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协同凝集试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3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药物敏感试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zoom dir="in"/>
  </p:transition>
  <p:timing>
    <p:tnLst>
      <p:par>
        <p:cTn id="647" dur="indefinite" restart="never" nodeType="tmRoot">
          <p:childTnLst>
            <p:seq>
              <p:cTn id="648" dur="indefinite" nodeType="mainSeq">
                <p:childTnLst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619280" y="834840"/>
            <a:ext cx="590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化脓性球菌小结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42960" y="1714680"/>
            <a:ext cx="7858080" cy="47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798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种类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--G+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G-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798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镜下特点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-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形态，染色性，排列，荚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798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主要致病物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ts val="37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菌体表面结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--SPA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蛋白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LTA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菌毛，荚膜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37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侵袭性酶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-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凝固酶，透明质酸酶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IgA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蛋白酶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37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毒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-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溶血素，杀白细胞素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TSST-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肠毒素，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37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红疹毒素，内毒素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3798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感染类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-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化脓性，毒素性，超敏反应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23640" y="1206360"/>
            <a:ext cx="670572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第一节  葡萄球菌属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828360" y="2563560"/>
            <a:ext cx="7543800" cy="14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宋体"/>
              </a:rPr>
              <a:t>化脓性感染和败血症的最常见病原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zoom dir="in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3" descr="葡萄球菌EM图"/>
          <p:cNvPicPr/>
          <p:nvPr/>
        </p:nvPicPr>
        <p:blipFill>
          <a:blip r:embed="rId1"/>
          <a:stretch/>
        </p:blipFill>
        <p:spPr>
          <a:xfrm>
            <a:off x="0" y="785880"/>
            <a:ext cx="4343400" cy="33289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13880" y="4572000"/>
            <a:ext cx="3024360" cy="76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葡萄球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8" name="Picture 2" descr="葡萄球菌G"/>
          <p:cNvPicPr/>
          <p:nvPr/>
        </p:nvPicPr>
        <p:blipFill>
          <a:blip r:embed="rId2"/>
          <a:stretch/>
        </p:blipFill>
        <p:spPr>
          <a:xfrm>
            <a:off x="4114800" y="642960"/>
            <a:ext cx="5029200" cy="425916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36480" y="1093320"/>
            <a:ext cx="7793280" cy="76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一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主要生物学性状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1285560" y="1973160"/>
            <a:ext cx="6383160" cy="361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形态染色结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—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G+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球形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簇状排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培养特点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金黄色色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 β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溶血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抗原构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荚膜多糖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SPA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抵抗力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易耐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5640" y="1143000"/>
            <a:ext cx="44197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分 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1214280" y="2090520"/>
            <a:ext cx="6715440" cy="39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金黄色葡萄球菌  凝固酶阳性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表皮葡萄球菌    凝固酶阴性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腐生葡萄球菌    凝固酶阴性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zoom dir="in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1000080" y="2071800"/>
          <a:ext cx="7215120" cy="4143240"/>
        </p:xfrm>
        <a:graphic>
          <a:graphicData uri="http://schemas.openxmlformats.org/drawingml/2006/table">
            <a:tbl>
              <a:tblPr/>
              <a:tblGrid>
                <a:gridCol w="1801800"/>
                <a:gridCol w="1806480"/>
                <a:gridCol w="1805040"/>
                <a:gridCol w="180180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性状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金葡菌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表皮葡菌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腐生葡菌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63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菌落色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金黄色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白色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白色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\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柠檬色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49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凝固酶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+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-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-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000" spc="-1" strike="noStrike">
                          <a:solidFill>
                            <a:srgbClr val="000000"/>
                          </a:solidFill>
                          <a:latin typeface="宋体"/>
                          <a:ea typeface="Tahoma"/>
                        </a:rPr>
                        <a:t>α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溶血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+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-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-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耐热核酸酶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+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-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-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49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A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蛋白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+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-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-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49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分解甘露醇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+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-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-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49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致病性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强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弱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弱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Rectangle 84"/>
          <p:cNvSpPr/>
          <p:nvPr/>
        </p:nvSpPr>
        <p:spPr>
          <a:xfrm>
            <a:off x="1000080" y="1171440"/>
            <a:ext cx="70707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三种葡萄球菌的主要性状</a:t>
            </a:r>
            <a:endParaRPr b="0" lang="en-US" sz="4400" spc="-1" strike="noStrike">
              <a:solidFill>
                <a:srgbClr val="046ca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2"/>
          <p:cNvSpPr/>
          <p:nvPr/>
        </p:nvSpPr>
        <p:spPr>
          <a:xfrm>
            <a:off x="-90360" y="477720"/>
            <a:ext cx="18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42960" y="5029200"/>
            <a:ext cx="785808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表皮葡萄球菌和金黄色葡萄球菌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血琼脂平板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7" name="Picture 10" descr="图像13-A-1"/>
          <p:cNvPicPr/>
          <p:nvPr/>
        </p:nvPicPr>
        <p:blipFill>
          <a:blip r:embed="rId1"/>
          <a:srcRect l="54460" t="23408" r="1980" b="23028"/>
          <a:stretch/>
        </p:blipFill>
        <p:spPr>
          <a:xfrm>
            <a:off x="4495680" y="380880"/>
            <a:ext cx="4648320" cy="43387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3" descr="staph"/>
          <p:cNvPicPr/>
          <p:nvPr/>
        </p:nvPicPr>
        <p:blipFill>
          <a:blip r:embed="rId2"/>
          <a:srcRect l="22960" t="16552" r="24145" b="0"/>
          <a:stretch/>
        </p:blipFill>
        <p:spPr>
          <a:xfrm>
            <a:off x="0" y="380880"/>
            <a:ext cx="4452840" cy="449604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图像13-A-2"/>
          <p:cNvPicPr/>
          <p:nvPr/>
        </p:nvPicPr>
        <p:blipFill>
          <a:blip r:embed="rId1">
            <a:lum bright="24000"/>
          </a:blip>
          <a:srcRect l="3333" t="18577" r="4999" b="4288"/>
          <a:stretch/>
        </p:blipFill>
        <p:spPr>
          <a:xfrm>
            <a:off x="714240" y="1143000"/>
            <a:ext cx="7788240" cy="381780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5"/>
          <p:cNvSpPr/>
          <p:nvPr/>
        </p:nvSpPr>
        <p:spPr>
          <a:xfrm>
            <a:off x="304920" y="5072040"/>
            <a:ext cx="85341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表皮葡萄球菌和金黄色葡萄球菌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营养琼脂平板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endParaRPr b="0" lang="en-US" sz="3600" spc="-1" strike="noStrike">
              <a:solidFill>
                <a:srgbClr val="046ca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正版用户</cp:lastModifiedBy>
  <dcterms:modified xsi:type="dcterms:W3CDTF">2014-05-26T01:36:28Z</dcterms:modified>
  <cp:revision>5</cp:revision>
  <dc:subject/>
  <dc:title>病原性球菌 (pathogenic coccus)  化脓性球菌 (pyogenic coccus)</dc:title>
</cp:coreProperties>
</file>